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58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65160" y="77580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61520"/>
            <a:ext cx="29862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903840" y="9461520"/>
            <a:ext cx="29858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F03BBC-B082-4C8C-AACB-0A6E9406D62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FRONTO: MOTO - AUTOBUS - CAMION - A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semplificare e rendere più efficace ed immediato il confronto, si sono presi i valori di emissione minimi e massimi rilevati per ciascuna categoria (moto, autobus, camion e auto). Tali valori sono quelli minimi e massimi rilevati sui vari percorsi e con vari tipi di carburante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le moto i dati sono quelli rilevati nel 2002 dalla Labeco, per conto della Regione Emilia Romag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gli autobus ed i camion dall'EniTecnologie: nel 2003 (autobus, Emilia Romagna), nel 2004 (autobus a metano, Piemonte), nel 2004 (camion, Emilia Romagn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le auto, fuoristrada e furgoni dal CRF nel 1999 sui percorsi urbani e dall'EniTecnologie nel 2004 sull'A1 e in tangenziale, sempre per conto della Regione Emilia Romag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ccorre precisare che i valori di emissione minimi e massimi presi in considerazione sono stati scelti tra quelli medi per ogni tipo di ciclo (scorrevole, lento) determinato dall'EniTecnologie. I valori determinati dal CRF per le auto e fuoristrada nei percorsi urbani sono riferiti a cicli sintetici valutati su valori a sua volta medi. I valori determinati dalla Labeco per le moto sono valori per prova, quindi non medi (i valori medi non sono stati forniti). I valori di emissione degli inquinanti non regolamentati, determinati dall'EniTecnologie sul Bus 3, non sono valori medi (quelli medi non sono stati determinat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 : l'emissione massima assoluta è quella del motociclo 125 cc due tempi (a miscela), con 32 g/km. Da notare che un autobus emette al massimo 13 g/km (alimentato a metano) e un camion (a gasolio) 4,6 g/km. Un auto a benzina catalizzata arriva a 9,5 g/k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a categoria delle moto, l'emissione minima riscontrata è stata di 9 g/km: motociclo 125 cc quattro tempi (a benzina). Per gli autobus l'emissione minima riscontrata è stata di circa 1 g/km, con alimentazione a metano. Per i camion l'emissione minima è di 1 g/km (a gasolio). Per le auto l'emissione minima è di 0,4 g/km (auto diesel catalizzata, gasoli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HC : l'emissione massima assoluta è quella del ciclomotore 50 cc due tempi (a miscela) con 15 g/km.  Segue l'autobus 3 (pre-euro 0), alimentato a gasolio, con 8,5 g/km. Il camion 2 (gasolio) ha fatto rilevare 3,2 g/km di emissione massima per la sua categoria. Le auto hanno un'emissione massima di 1,8 g/km (auto diesel catalizzata, gasoli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a categoria delle moto, l'emissione minima riscontrata è stata di circa 1,5 g/km: motociclo 150 cc quattro tempi (a benzina). Per gli autobus l'emissione minima riscontrata è stata di 1 g/km: autobus 6 (euro 3, a gasolio). Per i camion l'emissione minima è di 0,4 g/km (a gasolio). Per le auto l'emissione minima è di 0,1 g/km (auto diesel catalizzata, gasoli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M totale : questo inquinante è stato determinato solo sulle emissioni dei motori diesel e dei motori due tempi a miscela. La Labeco ha determinato le polveri anche sulle emissioni delle moto quattro tempi (ciclo otto, a benzin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'emissione massima assoluta è quella dell'autobus 3, pre-euro 0, alimentato a biodiesel, con 5 g/km. Segue l'emissione del camion 2 (emissione massima del camion a gasolio) con 1,4 g/km. Le maggiori emissioni successive sono quelle del ciclomotore 50 cc due tempi (emissione massima della categoria moto) e del camion 2 (emissione minima del camion a gasolio), entrambi con 0,37 g/km. L'emissione massima dell'auto diesel (catalizzata, gasolio) è di 0,15 g/km, seguita dall'emissione minima della categoria degli autobus: 0,1 g/km (autobus B a metano). L'emissione minima dell'auto diesel (catalizzata, gasolio) è  0,025 g/km,  quella minima della categoria moto (motociclo 250 cc quattro tempi) è 0,005 g/k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enzene : l'emissione massima assoluta è quella del ciclomotore 50 cc due tempi, con 175 mg/km. Segue l'emissione dell' autobus 3, pre-euro 0, a biodiesel, con 51 mg/km. Il camion 2 a gasolio ha un'emissione massima di 27,6 mg/km. L'emissione massima della categoria auto è di 6,6 mg/km (auto catalizzata a benzin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'emissione minima per la categoria delle moto è quella del motociclo 150 cc quattro tempi, con 15 mg/km. L'emissione minima degli autobus è quella dell'autobus I a metano (euro 3), con 5 mg/km. Il camion 1 a gasolio presenta l'emissione minima di categoria, pari a 0,1 mg/km. Per le auto l'emissione minima è 0,2 mg/km (auto diesel catalizzata, gasol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rbonilici : le emissioni massime per categoria di veicolo vedono in testa quella dell'autobus 3 a biodiesel (pre-euro 0), con 610 mg/km. La seconda è l'emissione del camion 1, a gasolio, con 274,32 mg/km. Il ciclomotore 50 cc due tempi ha un'emissione di 49 mg/km. L'auto diesel (catalizzata, gasolio) ha un'emissione di 10 mg/k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emissioni minime per categoria vedono in testa il camion 1 a gasolio, con 46,63 mg/km. Segue l'autobus I a metano (euro 3), con 30 mg/km. Per le moto, il motociclo 400 cc quattro tempi, con 3 mg/km. Le auto hanno 1, 37 mg/km (auto catalizzata a benzina) come emissione minima di categ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x : nella categoria degli autobus, l'emissione massima riscontrata è quella dell'autobus 3 (pre-euro 0) alimentato a ULSD, con 63,31 g/km. L'autobus I (euro 3-stechiometrico) a metano presenta l'emissione minima per la sua categoria: 6,8 g/km. Nella categoria dei camion (gasolio), l'emissione massima riscontrata è di 17,01 g/km; quella minima: 7,49 g/km (entrambe camion 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'auto diesel, nel ciclo 2 (extraurbano), ha l'emissione massima per la sua categoria: 2,09 g/km. L'auto a benzina nel percorso urbano slow, presenta l'emissione minima: 0,15 g/km. Il motociclo  400 cc quattro tempi, ha l'emissione massima di categoria: 1,24 g/km. Il motociclo 125 cc due tempi, presenta l'emissione minima della sua categoria: 0,01 g/k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65160" y="77616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730760"/>
            <a:ext cx="505296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luene : l'emissione di gran lunga maggiore è quella del ciclomotore 50 cc due tempi sui percorsi urbani, con 821,98 mg/km. Segue quella del motociclo 150 cc quattro tempi, sempre sui percorsi urbani, con 20,52 mg/km. Il bus 3 (pre-euro 0) a biodiesel ha un'emissione di 9,23 mg/km, mentre il bus I (euro 3) a metano emette 1 mg/km. Il camion 2 sul ciclo 2 ha un'emissione di 8,2 mg/km. Lo stesso camion sul ciclo 1 ha un'emissione minore, pari a 1,8 mg/km. Nella categoria delle auto, l'emissione maggiore riscontrata è nel ciclo urbano fast, da parte dell'auto a benzina, con 6,53 mg/km. L'emissione minore per questa categoria è 0.92 mg/km dell'auto diesel nel ciclo urbano s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723920" y="64771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ssessorato Ambiente e Sviluppo Sosteni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rvizio Risanamento Atmosferico, Acustico, Elettromagne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996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4960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3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817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817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817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cccc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Bookman Old Style"/>
              </a:rPr>
              <a:t>&lt;date/time&gt;</a:t>
            </a:r>
            <a:r>
              <a:rPr b="1" lang="en-US" sz="2000" spc="-1" strike="noStrike">
                <a:solidFill>
                  <a:srgbClr val="ccccff"/>
                </a:solidFill>
                <a:latin typeface="Bookman Old Style"/>
              </a:rPr>
              <a:t>Forli’ 24 gennai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62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7440" y="2707920"/>
            <a:ext cx="8534520" cy="23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fronto tra le emissioni di veicoli circolanti in area urbana ed extra-urban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usto Ognibene – 21 Giugn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80" y="477720"/>
            <a:ext cx="88930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Comic Sans MS"/>
              </a:rPr>
              <a:t>X Expert Panel “Emissioni da trasporto su str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zione sperimentale dei combusti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. Donato Mil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7160" y="557280"/>
          <a:ext cx="8726400" cy="573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57280"/>
                    <a:ext cx="87264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50920" y="836640"/>
          <a:ext cx="8726400" cy="51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8726400" cy="51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620640"/>
          <a:ext cx="9166320" cy="48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6632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544500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T - motore con alimentazione Lean Burn e catalizzatore a due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 - motore con alimentazione stechiometrica e catalizzatore a tre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0840" y="693720"/>
          <a:ext cx="8885160" cy="560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693720"/>
                    <a:ext cx="888516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2920" y="577800"/>
          <a:ext cx="891072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77800"/>
                    <a:ext cx="8910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4360" y="692280"/>
          <a:ext cx="8913960" cy="55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92280"/>
                    <a:ext cx="8913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9200" y="419040"/>
          <a:ext cx="9021960" cy="60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419040"/>
                    <a:ext cx="902196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-42840" y="549360"/>
          <a:ext cx="9242280" cy="57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840" y="549360"/>
                    <a:ext cx="924228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0080" y="692280"/>
          <a:ext cx="9004320" cy="55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692280"/>
                    <a:ext cx="900432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2840" y="576360"/>
          <a:ext cx="8918640" cy="57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76360"/>
                    <a:ext cx="891864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0:53:58Z</dcterms:created>
  <dc:creator>Regione Emilia Romagna</dc:creator>
  <dc:description/>
  <dc:language>en-US</dc:language>
  <cp:lastModifiedBy>ramponi_l</cp:lastModifiedBy>
  <cp:lastPrinted>2002-05-06T11:17:13Z</cp:lastPrinted>
  <dcterms:modified xsi:type="dcterms:W3CDTF">2005-06-16T11:14:39Z</dcterms:modified>
  <cp:revision>92</cp:revision>
  <dc:subject/>
  <dc:title>Nessun titolo diapositiva</dc:title>
</cp:coreProperties>
</file>